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ct" ContentType="image/x-pict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4.png" ContentType="image/png"/>
  <Override PartName="/ppt/media/image17.pct" ContentType="image/x-pict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F82E-C9B9-4050-933B-88313F3C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5F00-8AF0-4089-9D92-03947D56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919E-3EFA-49BC-BA15-9BDB30B9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1812-FDDB-4563-AF3B-344AA0C9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7A7C-AB09-4D2B-A1D4-9500353B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23F6-4F76-4B2E-B32F-419249D8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EE25-71E2-4F96-8504-CEFFB39C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C772-D481-4DE8-A063-38997039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1D57-85F2-4EED-8162-09F54EE8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4311-A025-4D77-936B-4A3878F7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FCB8-076F-47C3-A956-93FDA7F1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981-6B60-4F5B-BD1E-41C1BAFF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90A1-BC92-4E19-9E48-0D3AE200F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McfrLYDm2U" TargetMode="External"/><Relationship Id="rId2" Type="http://schemas.openxmlformats.org/officeDocument/2006/relationships/image" Target="../media/image2.pct"/><Relationship Id="rId3" Type="http://schemas.openxmlformats.org/officeDocument/2006/relationships/hyperlink" Target="http://www.youtube.com/watch?v=_A-ZVCjfWf8" TargetMode="External"/><Relationship Id="rId4" Type="http://schemas.openxmlformats.org/officeDocument/2006/relationships/hyperlink" Target="http://www.youtube.com/watch?v=_A-ZVCjfWf8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21centuryconnections.com/" TargetMode="External"/><Relationship Id="rId2" Type="http://schemas.openxmlformats.org/officeDocument/2006/relationships/hyperlink" Target="http://www.techlearning.com/" TargetMode="External"/><Relationship Id="rId3" Type="http://schemas.openxmlformats.org/officeDocument/2006/relationships/hyperlink" Target="http://www.eschoolnews.com/resources/creating-the-21st-century-classroom/" TargetMode="External"/><Relationship Id="rId4" Type="http://schemas.openxmlformats.org/officeDocument/2006/relationships/hyperlink" Target="http://www.21stcenturyskills.org/" TargetMode="External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adisondiocese.org/Schools/CurriculumDevelopment/Technology/tabid/263/Default.aspx" TargetMode="External"/><Relationship Id="rId2" Type="http://schemas.openxmlformats.org/officeDocument/2006/relationships/hyperlink" Target="http://www.21stcenturyskills.org/route21/index.php?option=com_content&amp;view=article&amp;id=47&amp;Itemid=41" TargetMode="External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21stcenturyskills.org/" TargetMode="External"/><Relationship Id="rId2" Type="http://schemas.openxmlformats.org/officeDocument/2006/relationships/hyperlink" Target="http://www.21centuryconnections.com/" TargetMode="External"/><Relationship Id="rId3" Type="http://schemas.openxmlformats.org/officeDocument/2006/relationships/hyperlink" Target="http://www.youtube.com/" TargetMode="External"/><Relationship Id="rId4" Type="http://schemas.openxmlformats.org/officeDocument/2006/relationships/hyperlink" Target="http://www.techlearning.com/" TargetMode="External"/><Relationship Id="rId5" Type="http://schemas.openxmlformats.org/officeDocument/2006/relationships/hyperlink" Target="http://www.eschoolnews.com/" TargetMode="External"/><Relationship Id="rId6" Type="http://schemas.openxmlformats.org/officeDocument/2006/relationships/hyperlink" Target="http://www.education.smarttech.com/" TargetMode="External"/><Relationship Id="rId7" Type="http://schemas.openxmlformats.org/officeDocument/2006/relationships/image" Target="../media/image19.jpeg"/><Relationship Id="rId8" Type="http://schemas.openxmlformats.org/officeDocument/2006/relationships/image" Target="../media/image19.jpeg"/><Relationship Id="rId9" Type="http://schemas.openxmlformats.org/officeDocument/2006/relationships/hyperlink" Target="http://www.teacherslovesmartboards.com/" TargetMode="External"/><Relationship Id="rId10" Type="http://schemas.openxmlformats.org/officeDocument/2006/relationships/hyperlink" Target="http://www.edutopia.org/" TargetMode="External"/><Relationship Id="rId11" Type="http://schemas.openxmlformats.org/officeDocument/2006/relationships/hyperlink" Target="http://www.thinkfinity.org/" TargetMode="External"/><Relationship Id="rId12" Type="http://schemas.openxmlformats.org/officeDocument/2006/relationships/hyperlink" Target="http://www.storycenter.org/" TargetMode="External"/><Relationship Id="rId13" Type="http://schemas.openxmlformats.org/officeDocument/2006/relationships/hyperlink" Target="http://www.webquest.org/" TargetMode="External"/><Relationship Id="rId14" Type="http://schemas.openxmlformats.org/officeDocument/2006/relationships/hyperlink" Target="http://www.plasq.com/comiclife" TargetMode="Externa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Being “Smart” with SMARTBo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ducating the 21st Century Learn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2666880" cy="2598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47920" y="4648320"/>
            <a:ext cx="6476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i Kra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5029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gie Sch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54864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t. John the Baptist Catholic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58672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Jefferson, W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28800" y="609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669960"/>
            <a:ext cx="58672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ssential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17524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736640"/>
            <a:ext cx="6095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-What is a “21st Century Learner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-What does this mean for me, the teac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-How do I integrate technology to enh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udent lear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-What teacher resources are avail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pport technology in edu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-What is a “SMARTBoard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-How can I use the SMARTBoard acro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curricul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05120" y="7621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1160" y="457200"/>
            <a:ext cx="5875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ision for K12 Learners in the 21st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47242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"Did You Know?"  (YouTube Vide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11430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       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Did You Kn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038480" y="1828800"/>
            <a:ext cx="1177920" cy="253224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rId3"/>
          </p:cNvPr>
          <p:cNvSpPr/>
          <p:nvPr/>
        </p:nvSpPr>
        <p:spPr>
          <a:xfrm>
            <a:off x="1523880" y="56386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"A Vision for K12 Learners"  (YouTube Vide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380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halkboard"/>
              </a:rPr>
              <a:t>       </a:t>
            </a:r>
            <a:r>
              <a:rPr b="1" lang="en-US" sz="3600" spc="-1" strike="noStrike">
                <a:solidFill>
                  <a:srgbClr val="333399"/>
                </a:solidFill>
                <a:latin typeface="Chalkboard"/>
              </a:rPr>
              <a:t>21st Century Learn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1181160" cy="1612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1574640" cy="1181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57200" y="3809880"/>
            <a:ext cx="1498680" cy="1181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705720" y="1523880"/>
            <a:ext cx="1778040" cy="1333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429000" y="3505320"/>
            <a:ext cx="1650960" cy="1079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3276720" y="1676520"/>
            <a:ext cx="1904760" cy="1549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5410080" y="4343400"/>
            <a:ext cx="1575000" cy="1244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2209680" y="4114800"/>
            <a:ext cx="1041480" cy="1574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304920" y="1447920"/>
            <a:ext cx="1714320" cy="1282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3657600" y="4876920"/>
            <a:ext cx="1359000" cy="1333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7010280" y="3048120"/>
            <a:ext cx="1524240" cy="1193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2"/>
          <a:stretch/>
        </p:blipFill>
        <p:spPr>
          <a:xfrm>
            <a:off x="533520" y="5181480"/>
            <a:ext cx="1574640" cy="1041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3"/>
          <a:stretch/>
        </p:blipFill>
        <p:spPr>
          <a:xfrm>
            <a:off x="7391520" y="4495680"/>
            <a:ext cx="977760" cy="14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95280" y="685800"/>
            <a:ext cx="6096240" cy="459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halkboard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Chalkboard"/>
              </a:rPr>
              <a:t>I am a 21st Century Learner!  I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76520" y="38545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21st Century Teachers and Classro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38520" y="5105520"/>
            <a:ext cx="533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uilding an Intelligent Digital Learning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2320" y="58356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reating the 21st Century Class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3808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lkboard"/>
              </a:rPr>
              <a:t>Why the hype about technology and learning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28954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halkboard"/>
              </a:rPr>
              <a:t>Let’s take a look at what the “21st Century Community” is talking about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438768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Framework of Skills for 21st Century Lear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3200400" y="1066680"/>
            <a:ext cx="22860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86240" y="4876920"/>
            <a:ext cx="348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Diocesan Technology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522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        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Wisconsin Takes the Lead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70360" y="2362320"/>
            <a:ext cx="26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isconsin Init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2895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Optima Bold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Optima Bold"/>
              </a:rPr>
              <a:t>Diocesan Standards:  How do we measure up?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657600" y="685800"/>
            <a:ext cx="1295280" cy="1676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429000" y="3352680"/>
            <a:ext cx="1574640" cy="1575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304280" y="5638680"/>
            <a:ext cx="64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Times New Roman"/>
              </a:rPr>
              <a:t>St. John the Baptist School:  What is our vi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1295280"/>
            <a:ext cx="815328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21stcenturyskills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21centuryconnection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youtub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techlearning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eschoolnew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www.education.smarttech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madisondiocese.org/Schools/CurriculumDevelopment/Technology/tabid/263/Default.asp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429000" y="533520"/>
            <a:ext cx="1905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Website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066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Pres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3733920"/>
            <a:ext cx="74674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www.teacherslovesmartboard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www.edutopia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www.thinkfinity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www.storycenter.org/index1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www.webquest.org/index.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www.plasq.com/comic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.apple.com/au/education/ipod/less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.juliethompson.com/SMART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ikeepbookmarks.com/maillinks.asp?folder=116627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.explorelearning.com/index.cf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35053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General/All Content Area Si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56386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K-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14:34:46Z</dcterms:created>
  <dc:creator>Margarete Schels</dc:creator>
  <dc:description/>
  <dc:language>en-US</dc:language>
  <cp:lastModifiedBy>Margarete Schels</cp:lastModifiedBy>
  <dcterms:modified xsi:type="dcterms:W3CDTF">2008-07-31T03:48:51Z</dcterms:modified>
  <cp:revision>31</cp:revision>
  <dc:subject/>
  <dc:title>PowerPoint Presentation</dc:title>
</cp:coreProperties>
</file>